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815B-0606-4342-8E62-B3933823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92BD-F554-441A-8982-7BF4D9B0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8A988-EA86-4536-A11C-73E48F0A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35066-47E7-4352-A8A6-8E30D6E3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242B0-6961-4CF3-9AD1-020A48AF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30868-360D-41DA-AA90-ED40EB5E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8A426-A77B-4D8E-8D20-9BA0432C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2C91F-8EAD-4BB9-8E2A-B35E46BB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1C7E0-6902-4231-A3F6-F6B57032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3B1DE-9D75-4015-B391-29623836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8F054-1217-4D2A-8CC9-741A4F07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63EB5-6F13-4DB6-A464-F80DBDDC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F30C-95EC-4A00-B7A9-F00889BD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3D14A-A747-40EA-A7FF-2B871225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81A07-9EFC-499B-8133-9AB75626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11269-BE0A-4945-BDF3-C65E49A3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4685D-59F9-4CE3-B522-9565BCB6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6ECD0-9B86-4896-9336-22A56E74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CF0AD-50B4-4305-BE18-9BF107B2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969D6-D764-42BB-B36A-E0CF9E22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04EF7-F9D2-448F-9CE1-ECA82855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65259-5011-4DE8-BF48-2ADD654D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83848-E371-4D21-B69F-AC616E09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5017-8869-4DBF-A469-8656D2CB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65223-C51B-4E6B-BF95-1B7B9B35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5FA59-4FFB-4AC7-A36A-F5D41803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7FE28-263E-428C-8F34-E983BF07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61A49-55A4-4E24-823C-EB7674F6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1D011-E9CE-4F21-8AAD-5BFB45E2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BA5AE-F95B-4591-AD19-BA194422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B739E-93D1-4855-A931-3B712DE6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00408-286B-4960-8562-171F28B5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7A292-64D0-45E9-9648-59811E69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72018-44F1-4FB0-9AA8-E4C4E36C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96E7-FA1F-40D1-BF0C-C84A4FEB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A2173-59E1-4B24-B3EB-7CCB7C8F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6738D-E85A-41EE-A5A3-0FC27773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81AA1-97AE-41F2-9CCB-4BC7B4FD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6872D-7064-4CD5-9E58-8A227ED0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188AA-8749-46FA-8064-1C1BC706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F57DA-3D66-41CF-A6A4-636A7355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B4C25-7A45-4ADA-9E38-4E58B101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AD01D-12B6-4F7A-B818-DC3AC790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8B265-F587-4E3F-B70D-248ED281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FA956-64F3-463E-9049-2C68AC8A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5CB1-5FE9-413E-9B02-AF772360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2D85F-6242-4A6E-B68C-77277017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B2CED-D5A9-4007-BFFE-184D0559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707E3-F94E-415D-9D4E-CDD28075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57317-8C51-4F9B-A7B4-5F38E0B2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6AAFD-597A-4816-A6BA-B9078BDB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185A-8A3D-4713-B466-79D3BB24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6009-FF2A-4996-8F2D-C001BDFE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3B7D-3BEE-4BCD-917F-2B39C4AB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5DFE-7AB4-476D-8A2C-B1A09FB6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9CE9-4943-4AE2-AC7C-B6D94A99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59F-F5AF-4F8A-84CA-BAB1ACD8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65AC-0058-4BC2-B527-5E63A8AE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E087-D866-4C0C-BA02-481CBBA3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C5E5-1802-4644-B04C-E22B5C98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BCE6-F27C-4075-A1A4-C09873A5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2E4A-4FB5-49D3-8CFF-704C06F0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6ACD1-372E-44DB-BDDC-C4575A70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9AFB2-7965-4E8D-9308-9ECFE018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C74A5-BE91-405F-B16D-21F9C92A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80413-F125-4F6B-A09A-CD704914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92256-BB0D-4FAB-8D6E-C184CC95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ACAD-3799-4438-B88D-4DB9BFCD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D0B40-CD20-4406-B034-112DF754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48C1D-2AB2-4771-B07F-029663FC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AFC16-5796-4977-B873-3E9FC72F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16D4A-321A-42C6-90E5-DE614E86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D73D7-146F-4352-B3AA-FEEB6C79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683C0-3B04-4759-9228-F4261D14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AF242-2914-4F5A-999C-3C90DD67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EBFA6-AB81-4838-AC72-91D073D2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311F6-C9D0-4F1F-B8D2-4865965D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1D5F4-8C0D-43F8-A6F3-E5A10AFA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B89-400C-4A14-88DB-A63ADD7C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0EB7E-5056-4227-AD02-625D2E6F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AE046-3208-409C-A396-88238DCA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B841E-975B-4D0D-8FD2-E823FD0E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0DE53-7327-4606-B90B-B78AB413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B45F3-3219-4C9F-B1A9-214D8880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81436-4EB1-479C-8E84-2DBDAA50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8C71D-7160-4803-86F0-4D4453CE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0AC04-A2A7-4596-A3F3-725DA747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9961D-71C4-4E8D-81DF-8A7D990A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D27B0-E321-4F80-B39F-3BCC63C28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A17-7BC6-499E-8057-C4A3B6B5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7305C-EF0A-4248-8610-A0CE25F6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BBC88-54D2-4D15-B205-ACC5FCE2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9469F-3AA9-47F5-88CC-9E729229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19C39-71CE-4C1B-A6E7-008F1626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D910F-0FF0-4428-8311-96794613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CB036-BA41-4085-ADDD-5EB55723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52AB0-139A-4993-B8FA-03608116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4B956-D353-46F7-A22D-0DF05194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A1899-7CA1-4688-AC92-41BC5D5D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5F500-4081-453B-B307-1DADB39E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A13D-1DE0-467A-9777-A29FF036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DE448-B159-4A04-BB8B-3427E89F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F6188-4796-4B1A-A899-41565CB7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73647-DADC-4D45-8035-C654D40D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17690-373A-415D-BB17-8A33F76F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1DDC9-D698-4C2D-BBF8-1CA1401A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214E4-DE1E-495E-A36D-95BAC7DA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030B2-9B7A-4B36-8B27-144D4E04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21AB2-180C-4E17-A819-63D242E4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21DBF-1151-4848-AE7C-FBBE6E80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4F02A-CCFE-4346-ACC7-11BBEC9D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2E9-6A84-431D-B634-E04F49E0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1004C-816A-441F-AFE5-E26D5C31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00C1E-72E0-4403-BE5B-FDBFA51E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1FBC0-1EB4-474D-875A-DEB87905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8F7B2-7107-40DB-83B2-44E047ED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776DF-0BE0-405B-9D96-46403529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FDA29-8B29-46D0-BF3D-1BEA244D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1BE99-4A63-456A-9D72-7EC59878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388BD-F6D6-4B76-947F-8A686428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99479-4DB3-4D96-98E6-9C0A4E74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BA503-6F57-478D-B9F6-17A311CE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3230-5B45-425E-8AF0-8DD5C789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331BB-6C7E-417A-AD6E-3268D2E7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546A9-1B77-40F0-A03A-9265DA04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47804-C190-4726-9652-4934A550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8FF1A-83C6-45B2-A88A-06E1EA27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CF051-352E-411E-B4D1-108D31D8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42293-C242-467E-B4DA-29422183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E5606-67DF-4EDC-AAD1-305ACF91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6926E-77D7-42B8-BB70-77F32DD3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6C4FB-5A7F-4938-A974-99CF01DF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F223B-E1AD-4E68-B248-5E26D652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76D-882E-4079-BF6C-5E7D6F7A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E08F4-786E-4C16-B608-7B0965FC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B17FF-19F8-4A43-BAEB-78F060CB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81648-233D-4338-AB28-83698BDE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F312B-7928-44A9-982B-669C4192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1F042-5D1D-4AE5-A8FB-9FC17025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B6627-DA14-4CF3-8BDD-872C141C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79DCB-CB22-4CD0-9244-AF0B5B90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7EEE8-9D48-458A-B4CD-FD4E11D2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CC95D-1E7E-4C71-9FF5-23569A0F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9F442-34DE-45FB-B7FA-DCFBABAA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FDBA-2EF9-421D-8043-30B5B400B38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3673-E52F-4750-AF4A-56DE67A470E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E5C0-A490-433B-A88D-8A5AB907F34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E4CE-BA91-450D-8FA3-C8BBB23395E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BFDF-A313-4A59-8775-C9B24E8BDD3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29C0-3D09-4023-A06E-1869F4600C0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215E-2CAA-4E3A-A428-6160DC09239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5028-0360-4AA4-9A9B-31CED12EC53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A311-F59B-413A-99F7-13257E9DD75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AB08-249D-4D9F-8C7F-7AF2DCAC81F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A46F-C0C3-4870-A83C-000D72E88BC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D9AD-24DB-4FEB-9FFD-19AB91E4A79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14 Chceš Krista milova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š Krista milov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erne ísť za ním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š jeho meno vyznáv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restať s váhaní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z lásky hotov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neho žiť i mrieť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stálu vernosť Kristov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väčšej pocty ni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Božej vôle cie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aj zreteľ upret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oznáš, že on sám ti šie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s láskou v ústre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ním vždycky zvíťazí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j dobrý dokon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 jeho Slovu uverí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ri ňom zotrváš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4:38:26Z</dcterms:modified>
  <cp:revision>23</cp:revision>
  <dc:subject/>
  <dc:title>Je veľký náš Pán, on slávy je Kráľ Nech do všetkých strán  spev vrúcnych znie chvál.</dc:title>
</cp:coreProperties>
</file>